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FB2-8A83-4FB1-BE25-B7AD7B70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9C1-33C4-489E-82B3-A3697A9C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067-B3CD-4A53-A7B8-687BB76C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D03-B703-4B2E-8353-0FB8D119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0E64-C3EB-4FFA-8445-9A9A1F8E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7B05-1E10-4A98-B3B4-3B073E9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268-43A3-4F8E-841E-9859C45F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2681-8BAE-4591-A146-32EBD0C4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3648-6627-405D-8B45-184CDAAB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A809-A484-4201-98E7-B5893ADE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A2C9-F61E-440B-805A-F9DFFAE2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D06-5883-4AEC-950A-A1C1C835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67F-83FF-4FFA-911A-0226F38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3E1-2A56-45A7-90F0-CCBB11B9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FF6F-401C-4470-AC7C-8D1725DE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4C6-C2AD-4C80-A02C-A93CC97E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032C-5439-41BA-9916-5F31326F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FA53-6A9E-40BD-9D06-85A9FA19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5A36-4E47-49FC-BAD9-49BFBC34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27B6-5BF9-4E28-B926-8696735B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BF99-377A-4B86-A850-D93FF010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F241-A00E-4A34-BE66-5C086213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A16-8E85-418F-96B3-BB97B88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F47B-DA49-4571-818B-32D938E4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8477-3DB3-4307-91C7-3AF7258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197C-7CA9-4F2E-BE5F-D62628A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79DA-CCEE-4200-8749-44D4D97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43E0-7164-45FD-9E49-466E458F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9688-E2F0-473B-95A2-1FD1B0A8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F7BD-8C20-445D-85EE-F23EAB78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0709-6E42-4E73-BCBF-1DA155AF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E126-B973-48B5-84EB-F6B54DC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6FA1-B8DC-4719-A3F5-AD5AEB67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478-07FA-452A-B33A-2DD3146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5B87-C094-4403-9A72-A82BC59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7294-90AB-43A6-96EC-D16E11E8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0FAD-FDA1-48A1-BBC1-BD745AE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6234-DCB6-4867-A355-682F0CB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54BD-372C-4555-9074-D2EDA8C3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D627-A6C5-4807-ADE0-DA02632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0324-2191-4925-8349-441579F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1429-5275-4A1A-AB91-BDF011D9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8AF3-DCF1-45A6-86BE-09711EF2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6D9-A017-4075-A05C-813CA6B2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6AD-9555-4D97-869B-7EADDC50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1B8-7110-4587-8D90-8FDDF58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EBF-5135-46C6-9CAD-4DBDB69D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B07-4187-450F-A8D4-D81973EA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F92-49CE-41C6-BEBA-BB1D67EE47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B24-0538-43EF-948B-453DC28887B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E304-7BA7-493F-BA7F-BCFA593426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D88-2A55-4FA4-8DD6-8D7C0B7F59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8440" cy="1835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Year, 3.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La Prác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na: la ro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guel: el abri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ciela y yo: la bufan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úl y Ben: el gor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: los sh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2514600" y="18241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Diana va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a.  O  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Diana 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a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2514600" y="27432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Miguel va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.  O  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Miguel 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2590920" y="3581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mos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a.  O   La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mos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2666880" y="4572000"/>
            <a:ext cx="9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Ellos van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.  O   Lo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n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2743200" y="54100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Yo voy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s.  O   Los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oy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6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Direct Obj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90080" y="25909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___________________________ in a sentence receives the action of the ver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rect objects answer the questions ________________ or ____________________ about the ver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398600" y="251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5302080" y="4402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who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35120" y="5164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what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15"/>
          <p:cNvSpPr/>
          <p:nvPr/>
        </p:nvSpPr>
        <p:spPr>
          <a:xfrm>
            <a:off x="6705720" y="5257800"/>
            <a:ext cx="2247840" cy="560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1887480" y="5257800"/>
            <a:ext cx="237960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6515280" y="4703760"/>
            <a:ext cx="2438280" cy="554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2209680" y="4707000"/>
            <a:ext cx="1752840" cy="550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6400800" y="4191120"/>
            <a:ext cx="266688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1676520" y="4191120"/>
            <a:ext cx="266688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do you know what the direct object of a sentence is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8840" y="2315880"/>
            <a:ext cx="89154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ep 1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ate the </a:t>
            </a:r>
            <a:r>
              <a:rPr b="0" lang="en-US" sz="2600" spc="-1" strike="noStrike">
                <a:solidFill>
                  <a:srgbClr val="f0628e"/>
                </a:solidFill>
                <a:latin typeface="Constantia"/>
              </a:rPr>
              <a:t>verb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(Underline i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ep 2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k yourself,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WHO?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WHA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eives the action of the verb. That is your </a:t>
            </a:r>
            <a:r>
              <a:rPr b="0" lang="en-US" sz="2600" spc="-1" strike="noStrike">
                <a:solidFill>
                  <a:srgbClr val="a5c249"/>
                </a:solidFill>
                <a:latin typeface="Constantia"/>
              </a:rPr>
              <a:t>direct objec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(Circle i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NGLISH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ANI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have  </a:t>
            </a:r>
            <a:r>
              <a:rPr b="0" lang="en-US" sz="2800" spc="-1" strike="noStrike">
                <a:solidFill>
                  <a:srgbClr val="f0628e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the sho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 Yo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tengo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los zapat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e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wear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a scarf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 Ella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lleva 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una bufand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your broth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n-US" sz="2800" spc="-1" strike="noStrike">
                <a:solidFill>
                  <a:srgbClr val="f0628e"/>
                </a:solidFill>
                <a:latin typeface="Constantia"/>
              </a:rPr>
              <a:t>Llamam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a tu hermano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Direct Object Pronou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2280" y="1851120"/>
            <a:ext cx="9144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_______________________________________ takes the place of the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direct obje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ca62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 have 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he shoes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.  I have </a:t>
            </a:r>
            <a:r>
              <a:rPr b="1" i="1" lang="en-US" sz="2800" spc="-1" strike="noStrike">
                <a:solidFill>
                  <a:srgbClr val="f0628e"/>
                </a:solidFill>
                <a:latin typeface="Constantia"/>
              </a:rPr>
              <a:t>them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e wears 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 scarf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She wears</a:t>
            </a:r>
            <a:r>
              <a:rPr b="0" i="1" lang="en-US" sz="2800" spc="-1" strike="noStrike">
                <a:solidFill>
                  <a:srgbClr val="f0628e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f0628e"/>
                </a:solidFill>
                <a:latin typeface="Constantia"/>
              </a:rPr>
              <a:t>it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 call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your broth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We call </a:t>
            </a:r>
            <a:r>
              <a:rPr b="1" i="1" lang="en-US" sz="2800" spc="-1" strike="noStrike">
                <a:solidFill>
                  <a:srgbClr val="f0628e"/>
                </a:solidFill>
                <a:latin typeface="Constantia"/>
              </a:rPr>
              <a:t>him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1523880" y="1944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 pronou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Curved Left Arrow 8"/>
          <p:cNvSpPr/>
          <p:nvPr/>
        </p:nvSpPr>
        <p:spPr>
          <a:xfrm rot="687000">
            <a:off x="6172200" y="2273400"/>
            <a:ext cx="762120" cy="2933640"/>
          </a:xfrm>
          <a:custGeom>
            <a:avLst/>
            <a:gdLst>
              <a:gd name="textAreaLeft" fmla="*/ 101880 w 762120"/>
              <a:gd name="textAreaRight" fmla="*/ 660240 w 762120"/>
              <a:gd name="textAreaTop" fmla="*/ 662040 h 2933640"/>
              <a:gd name="textAreaBottom" fmla="*/ 2176560 h 29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8" stAng="-5400000" swAng="5400000"/>
                <a:lnTo>
                  <a:pt x="21600" y="11151"/>
                </a:lnTo>
                <a:arcTo wR="21600" hR="9748" stAng="0" swAng="3613497"/>
                <a:lnTo>
                  <a:pt x="5400" y="21290"/>
                </a:lnTo>
                <a:lnTo>
                  <a:pt x="0" y="20198"/>
                </a:lnTo>
                <a:lnTo>
                  <a:pt x="5400" y="18485"/>
                </a:lnTo>
                <a:lnTo>
                  <a:pt x="5400" y="19186"/>
                </a:lnTo>
                <a:arcTo wR="21600" hR="9748" stAng="3613497" swAng="-3501599"/>
                <a:lnTo>
                  <a:pt x="21544" y="10450"/>
                </a:lnTo>
                <a:arcTo wR="21600" hR="9748" stAng="-111898" swAng="-5288102"/>
                <a:close/>
              </a:path>
              <a:path fill="darkenLess" w="21600" h="21600">
                <a:moveTo>
                  <a:pt x="0" y="0"/>
                </a:moveTo>
                <a:arcTo wR="21600" hR="9748" stAng="-5400000" swAng="5400000"/>
                <a:lnTo>
                  <a:pt x="21600" y="11151"/>
                </a:lnTo>
                <a:arcTo wR="21600" hR="9748" stAng="0" swAng="-111898"/>
                <a:lnTo>
                  <a:pt x="21544" y="10450"/>
                </a:lnTo>
                <a:arcTo wR="21600" hR="9748" stAng="-111898" swAng="-5288102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Curved Left Arrow 9"/>
          <p:cNvSpPr/>
          <p:nvPr/>
        </p:nvSpPr>
        <p:spPr>
          <a:xfrm rot="453600">
            <a:off x="6397200" y="2244600"/>
            <a:ext cx="762120" cy="3470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795960 h 3470400"/>
              <a:gd name="textAreaBottom" fmla="*/ 2579040 h 347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1" stAng="-5400000" swAng="5400000"/>
                <a:lnTo>
                  <a:pt x="21600" y="11096"/>
                </a:lnTo>
                <a:arcTo wR="21600" hR="9911" stAng="0" swAng="3637966"/>
                <a:lnTo>
                  <a:pt x="5400" y="21285"/>
                </a:lnTo>
                <a:lnTo>
                  <a:pt x="0" y="20415"/>
                </a:lnTo>
                <a:lnTo>
                  <a:pt x="5400" y="18914"/>
                </a:lnTo>
                <a:lnTo>
                  <a:pt x="5400" y="19507"/>
                </a:lnTo>
                <a:arcTo wR="21600" hR="9911" stAng="3637966" swAng="-3543522"/>
                <a:lnTo>
                  <a:pt x="21561" y="10504"/>
                </a:lnTo>
                <a:arcTo wR="21600" hR="9911" stAng="-94444" swAng="-5305556"/>
                <a:close/>
              </a:path>
              <a:path fill="darkenLess" w="21600" h="21600">
                <a:moveTo>
                  <a:pt x="0" y="0"/>
                </a:moveTo>
                <a:arcTo wR="21600" hR="9911" stAng="-5400000" swAng="5400000"/>
                <a:lnTo>
                  <a:pt x="21600" y="11096"/>
                </a:lnTo>
                <a:arcTo wR="21600" hR="9911" stAng="0" swAng="-94444"/>
                <a:lnTo>
                  <a:pt x="21561" y="10504"/>
                </a:lnTo>
                <a:arcTo wR="21600" hR="9911" stAng="-94444" swAng="-5305556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own Arrow 11"/>
          <p:cNvSpPr/>
          <p:nvPr/>
        </p:nvSpPr>
        <p:spPr>
          <a:xfrm>
            <a:off x="5888160" y="2590920"/>
            <a:ext cx="284040" cy="17524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P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935000"/>
          <a:ext cx="8001000" cy="283536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(famili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 all(famili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, 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(formal), him,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s, 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 all(formal), 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Structure of the sent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320" y="12189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2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Spanish the __________________________________is placed ____________________ the conjugated verb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I need </a:t>
            </a:r>
            <a:r>
              <a:rPr b="0" i="1" lang="en-US" sz="2400" spc="-1" strike="noStrike">
                <a:solidFill>
                  <a:srgbClr val="f0628e"/>
                </a:solidFill>
                <a:latin typeface="Constantia"/>
              </a:rPr>
              <a:t>them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 (the shoes).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Yo 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los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necesit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You call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0628e"/>
                </a:solidFill>
                <a:latin typeface="Constantia"/>
              </a:rPr>
              <a:t>him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.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ú 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lo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llama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I have </a:t>
            </a:r>
            <a:r>
              <a:rPr b="0" i="1" lang="en-US" sz="2400" spc="-1" strike="noStrike">
                <a:solidFill>
                  <a:srgbClr val="f0628e"/>
                </a:solidFill>
                <a:latin typeface="Constantia"/>
              </a:rPr>
              <a:t>it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 (the scarf).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Yo  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la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teng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21932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362320" y="12952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 pronou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La Prác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na: los zap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: la plu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berto: las bufan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sefina y yo: las revist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berto: el lib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743200" y="1905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los compra.  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buys them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590920" y="2743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Tú la compras.  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You buy  it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2590920" y="358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Roberto las compra.  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Roberto buys them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2514600" y="4572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Nosotros las compramos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We buy them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2819520" y="5486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Alberto lo compra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Alberto buys it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La Prác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6.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: los pantal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7.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na: la ro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8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: el caf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828800" y="19810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Vosotros los compráis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You all (fam.)buy th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124080" y="2814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la compra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buys 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809880" y="3805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Yo lo compro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I buy 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DOPs with an infini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24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n infinitive follows the conjugated verb, the ____________________________________ can be placed in either of the following pla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________________ the conjugate ver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 want to take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hem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da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________________ to the infini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___________________.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 want to take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hem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da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820800" y="19051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 pronou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-457200" y="39258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11240" y="4495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839"/>
                </a:solidFill>
                <a:latin typeface="Constantia"/>
                <a:ea typeface="Arial"/>
              </a:rPr>
              <a:t>Las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  <a:ea typeface="Arial"/>
              </a:rPr>
              <a:t>quiero sacar ho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52280" y="5943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  <a:ea typeface="Arial"/>
              </a:rPr>
              <a:t>Quiero sacar</a:t>
            </a:r>
            <a:r>
              <a:rPr b="1" lang="en-US" sz="2400" spc="-1" strike="noStrike">
                <a:solidFill>
                  <a:srgbClr val="55a839"/>
                </a:solidFill>
                <a:latin typeface="Constantia"/>
                <a:ea typeface="Arial"/>
              </a:rPr>
              <a:t>la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  <a:ea typeface="Arial"/>
              </a:rPr>
              <a:t> ho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-363600" y="53737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attache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1:13Z</dcterms:created>
  <dc:creator>Owner</dc:creator>
  <dc:description/>
  <dc:language>en-US</dc:language>
  <cp:lastModifiedBy>Prine, Stephanie</cp:lastModifiedBy>
  <dcterms:modified xsi:type="dcterms:W3CDTF">2016-12-01T17:41:26Z</dcterms:modified>
  <cp:revision>34</cp:revision>
  <dc:subject/>
  <dc:title>Direct Object Pronouns</dc:title>
</cp:coreProperties>
</file>